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927-11F4-4FE9-8E17-12DAD9AC9680}" type="slidenum">
              <a:rPr b="1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time, I will introduce online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’s see file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 is used to do fast connection to the site visited la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 is to connect the site that just you access  befo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connect is used to disconnect the disconnection from th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it is used to close PC Admin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Tools menu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ere are 3 lower menus; site information, user management, level managemen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site information, we can register site with detailed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user management, we can register pc admin user and password with available level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the level management, we can register a level defined in user management. In this menu, we can assign menu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hose should be hided. There is one important thing. Except level 1, other level number does not mean priority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ser management and Level management are shown only for level 1 user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 other words, user whose level is not level 1 cannot see these two menu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 will explain again these windows in next present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Move to next page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ith this window, we can edit site information that we want to connec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f you add your customer site information, it will be very helpful to you when you connect the sit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e can also save this information as file. If you save this information, two files will be creat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One is “sitelist.cds” and another is “sitelist_detail.cds”. These files should be backed up for emergency ca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t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는 몇 개까지 등록 할 수 있을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an manage the access level with different level in this window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 this window, you can add/delete/Modify the user inform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efault ID is administrator with level 1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fter add new user, you can delete administrator for security. But you cannot recover administrator again after deleting the accou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 such emergency case, you should install again to recover administrator accou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vel 1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er ID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를 등록 할 수 있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er ID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는 몇 개까지 등록 할 수 있을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window is very important because we can manage access items with different leve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should keep in mind that the level 2-99 does not mean the priority. If you want to use the number as priority, you can use i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asically, the level number does not mean priori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f you want to add new level, select level number. If level number is selected, we can hide some menu to the user with selected leve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ight side displays all menus of PCADM. Select the menu and click right button. Then selected menu will be added in left sid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menus in right side will not be displayed to user with this leve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nu selection can be done with submenu unit.(?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’s see option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can change PC admin language. Default language is English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local language can be defined by editing a related language txt file, but it is not supported ye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’s see the LDK utility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LDK db up/download menu, remote diagnostic menu, LDK s/w upgrade menu and speed editor path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 the help menu, pc admin general information is displayed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Now, let’s execute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irst, execute PCadmin.exe and then Login Dialog box shows up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et me introduce PC admin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hen the connection is established, the main window show up like thi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w, I will show you how to install PC admin s/w and how it work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fter then, you will do a practi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ollowing PC Spec. is required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lease just refer to the requirement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supports 3 kinds of connection types as shown in the pict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S-232C, Analog modem, LAN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how to install PC admi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installation is not difficul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ecute setup.exe and then just follow the indication as described in the page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window is after connec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ain menu and sub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page shows the PC admin main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 composed of main menu, basic system information field, admin menu, admin window, mess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 will explain more details from next page. 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et’s see basic system information field firs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asic system information shows the following inform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stem field shows a kind of LDK system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Move to next pag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1CA7-E6A2-4095-AE8F-99D588CDEA4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3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5440" y="1773360"/>
            <a:ext cx="595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Online PCADMIN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1640" y="915840"/>
            <a:ext cx="764568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Connect/Disconnect/Exi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nnect : This menu is for Fast Connection to the site visited la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isconnect : Disconnection from 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Exit : Close PC Admi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8720" y="2647800"/>
            <a:ext cx="7296120" cy="1314720"/>
            <a:chOff x="828720" y="2647800"/>
            <a:chExt cx="7296120" cy="13147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30253" t="33469" r="33538" b="51988"/>
            <a:stretch/>
          </p:blipFill>
          <p:spPr>
            <a:xfrm>
              <a:off x="828720" y="2647800"/>
              <a:ext cx="436392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5629320" y="2647800"/>
              <a:ext cx="2495520" cy="12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5191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31640" y="912960"/>
            <a:ext cx="7493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ols </a:t>
            </a: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Site Information/User Management/Level Manag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ite Information : Register site with detailed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User Management : Register PC Admin User, Password and availabl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Level Management : Register Level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0253" t="33434" r="33538" b="51853"/>
          <a:stretch/>
        </p:blipFill>
        <p:spPr>
          <a:xfrm>
            <a:off x="828720" y="2587680"/>
            <a:ext cx="3733920" cy="1138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24482" t="28958" r="29935" b="33508"/>
          <a:stretch/>
        </p:blipFill>
        <p:spPr>
          <a:xfrm>
            <a:off x="4800600" y="2622600"/>
            <a:ext cx="3657600" cy="17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0401" t="32121" r="40284" b="53165"/>
          <a:stretch/>
        </p:blipFill>
        <p:spPr>
          <a:xfrm>
            <a:off x="838080" y="4495680"/>
            <a:ext cx="3733920" cy="1417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30759" t="32891" r="30660" b="26928"/>
          <a:stretch/>
        </p:blipFill>
        <p:spPr>
          <a:xfrm>
            <a:off x="4800600" y="4495680"/>
            <a:ext cx="3657600" cy="1546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4176720" cy="3678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31640" y="914400"/>
            <a:ext cx="84074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te Inform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C Admin can save simple site information and we can connect to the site directly with this lis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[Tools]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[Site Information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New] button to add sit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ress [OK] button each after ente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te informati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ress [Save] button to save sit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7196" t="21026" r="28472" b="52373"/>
          <a:stretch/>
        </p:blipFill>
        <p:spPr>
          <a:xfrm>
            <a:off x="685800" y="3693960"/>
            <a:ext cx="3352680" cy="1949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59640" y="2852640"/>
            <a:ext cx="1828800" cy="1447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2062080" y="3048120"/>
            <a:ext cx="459756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877000"/>
            <a:ext cx="49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Related file: “sitelist.cds” and “sitelist_detail.cds”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user_mgt" descr=""/>
          <p:cNvPicPr/>
          <p:nvPr/>
        </p:nvPicPr>
        <p:blipFill>
          <a:blip r:embed="rId1"/>
          <a:srcRect l="564" t="0" r="0" b="0"/>
          <a:stretch/>
        </p:blipFill>
        <p:spPr>
          <a:xfrm>
            <a:off x="4213080" y="3648240"/>
            <a:ext cx="3940200" cy="1987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37111" t="20913" r="28268" b="52242"/>
          <a:stretch/>
        </p:blipFill>
        <p:spPr>
          <a:xfrm>
            <a:off x="838080" y="3648240"/>
            <a:ext cx="31244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1640" y="915840"/>
            <a:ext cx="749304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r Manage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C Admin supports multiple users with different leve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[Tools]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[User Management]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New] button to add user. Then you will see some dialog box with below order.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ff"/>
                </a:solidFill>
                <a:latin typeface="Arial"/>
                <a:ea typeface="굴림체"/>
              </a:rPr>
              <a:t>  </a:t>
            </a:r>
            <a:r>
              <a:rPr b="0" lang="ko-KR" sz="1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ff"/>
                </a:solidFill>
                <a:latin typeface="Arial"/>
                <a:ea typeface="굴림체"/>
              </a:rPr>
              <a:t> </a:t>
            </a:r>
            <a:r>
              <a:rPr b="0" i="1" lang="ko-KR" sz="1400" spc="-1" strike="noStrike">
                <a:solidFill>
                  <a:srgbClr val="0000ff"/>
                </a:solidFill>
                <a:latin typeface="Arial"/>
                <a:ea typeface="굴림체"/>
              </a:rPr>
              <a:t>User ID / Password / Level(0~99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ress the [OK] button each after entering User ID, Password and Leve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Save] button to save change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326560" y="5629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r Manag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075760" y="56293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31640" y="914400"/>
            <a:ext cx="84837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vel Manage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C Admin supports multi level of users.  Administrator has the highest priori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[Tools]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[Level Management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New] button to assign new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the level that you want to add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the features to be disabl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ith assigned level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save] button to save change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56000" y="1951200"/>
            <a:ext cx="4483080" cy="3868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37111" t="21026" r="28373" b="52242"/>
          <a:stretch/>
        </p:blipFill>
        <p:spPr>
          <a:xfrm>
            <a:off x="533520" y="3875040"/>
            <a:ext cx="3657600" cy="194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941080" y="581832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 Manag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2021760" y="58183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08720" y="1364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760" y="620640"/>
            <a:ext cx="749304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tion </a:t>
            </a: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Language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Language : Change PC Admin Language (English and Local Languag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-. Default language is Englis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-. The local language can be defined by editing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굴림체"/>
              </a:rPr>
              <a:t>“common.txt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and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굴림체"/>
              </a:rPr>
              <a:t> menu.txt ”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fault File Location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ff3300"/>
                </a:solidFill>
                <a:latin typeface="Arial"/>
                <a:ea typeface="굴림체"/>
              </a:rPr>
              <a:t>[C:\Program Files\LG Nortel\LDK-PCADMIN\Define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굴림체"/>
              </a:rPr>
              <a:t> 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굴림체"/>
              </a:rPr>
              <a:t>-. If you backup this file, you can use this file in emergency cas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6186" t="18509" r="51091" b="60076"/>
          <a:stretch/>
        </p:blipFill>
        <p:spPr>
          <a:xfrm>
            <a:off x="5638680" y="3429000"/>
            <a:ext cx="3124440" cy="1514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75308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57200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90480" y="4076640"/>
            <a:ext cx="381024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5840" y="509760"/>
            <a:ext cx="81025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DK Utility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C Admin includes the following utilitie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K DB Upload Downloa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K Remote Diagnostic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K Upgrad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K Speed Editor pat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022480" y="2519280"/>
            <a:ext cx="137160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2022480" y="2776680"/>
            <a:ext cx="137160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022480" y="2997360"/>
            <a:ext cx="137160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 rot="5400000">
            <a:off x="1003320" y="3061080"/>
            <a:ext cx="1181160" cy="838440"/>
          </a:xfrm>
          <a:custGeom>
            <a:avLst/>
            <a:gdLst/>
            <a:ahLst/>
            <a:rect l="l" t="t" r="r" b="b"/>
            <a:pathLst>
              <a:path w="750" h="2828">
                <a:moveTo>
                  <a:pt x="20" y="2828"/>
                </a:moveTo>
                <a:cubicBezTo>
                  <a:pt x="10" y="1833"/>
                  <a:pt x="0" y="838"/>
                  <a:pt x="122" y="419"/>
                </a:cubicBezTo>
                <a:cubicBezTo>
                  <a:pt x="244" y="0"/>
                  <a:pt x="497" y="158"/>
                  <a:pt x="750" y="31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041640" y="1989000"/>
            <a:ext cx="3475080" cy="530280"/>
          </a:xfrm>
          <a:custGeom>
            <a:avLst/>
            <a:gdLst/>
            <a:ahLst/>
            <a:rect l="l" t="t" r="r" b="b"/>
            <a:pathLst>
              <a:path w="750" h="2828">
                <a:moveTo>
                  <a:pt x="20" y="2828"/>
                </a:moveTo>
                <a:cubicBezTo>
                  <a:pt x="10" y="1833"/>
                  <a:pt x="0" y="838"/>
                  <a:pt x="122" y="419"/>
                </a:cubicBezTo>
                <a:cubicBezTo>
                  <a:pt x="244" y="0"/>
                  <a:pt x="497" y="158"/>
                  <a:pt x="750" y="31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 flipV="1" rot="16200000">
            <a:off x="4072680" y="2414160"/>
            <a:ext cx="817560" cy="2124000"/>
          </a:xfrm>
          <a:custGeom>
            <a:avLst/>
            <a:gdLst/>
            <a:ahLst/>
            <a:rect l="l" t="t" r="r" b="b"/>
            <a:pathLst>
              <a:path w="750" h="2828">
                <a:moveTo>
                  <a:pt x="20" y="2828"/>
                </a:moveTo>
                <a:cubicBezTo>
                  <a:pt x="10" y="1833"/>
                  <a:pt x="0" y="838"/>
                  <a:pt x="122" y="419"/>
                </a:cubicBezTo>
                <a:cubicBezTo>
                  <a:pt x="244" y="0"/>
                  <a:pt x="497" y="158"/>
                  <a:pt x="750" y="31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76840" y="3860640"/>
            <a:ext cx="2171520" cy="1676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516720" y="1844640"/>
            <a:ext cx="217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31640" y="836640"/>
            <a:ext cx="71121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1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bou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 menu shows PC Admin general inform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4103640" cy="1552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47800" y="2733840"/>
            <a:ext cx="2971800" cy="2801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31640" y="836640"/>
            <a:ext cx="7035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C Admin Program Execu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Execute PC admin software, and then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“Login Dialog” box shows up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Input User ID and Password( Default ID : administrator , Password : 0000 )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ress the [OK] button,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then the main window of PC Admin shows u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124160" y="2733840"/>
            <a:ext cx="4267440" cy="279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912560" y="555300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ndow-Disconnec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705320" y="555300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gin Dialo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9360" y="1159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8. Ope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514600" cy="124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31640" y="765000"/>
            <a:ext cx="709308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te Inform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pen Site Information [Tools]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[Site Information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a site and click mouse right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Select and click one of connection type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Input System Admin Password(PGM 162) and click [OK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The connection between PC Admin and ipLDK system is establ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4562640" cy="2889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9360" y="1159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8. Ope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7640" y="1522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체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1336680"/>
            <a:ext cx="407196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PC Spec. Requirement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Connection Typ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S/W Install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Demo &amp; Practi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Appendix A,B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280" y="765000"/>
            <a:ext cx="543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in Window-Connection Statu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551640" cy="4763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9360" y="11592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8. Ope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480" y="1143000"/>
            <a:ext cx="792504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vantages…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pgrade MPB software without going to the sit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ve cost and time for going to the si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rotect the database of MPB during upgrade proc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type connection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supported(Serial port, MODEM,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TCPIP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PPP can be used for Mod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Faster process spe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Things that you should keep in mind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uring receiving the data into DRAM, it will not affect the system operation.(Step 1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uring writing into the Flash ROM, don’t touch the ipLD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system.(Step 2)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Very important !!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After finishing the whole process, ipLDK system will reset automatic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After the system is restarted, we can use the ipLDK system without additional job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5160" y="115920"/>
            <a:ext cx="39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9.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mote Software Upgra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836640"/>
            <a:ext cx="7589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ep  1 . Select the system and connection typ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 rot="19478400">
            <a:off x="3773160" y="3690720"/>
            <a:ext cx="904680" cy="533160"/>
          </a:xfrm>
          <a:custGeom>
            <a:avLst/>
            <a:gdLst>
              <a:gd name="textAreaLeft" fmla="*/ 141120 w 904680"/>
              <a:gd name="textAreaRight" fmla="*/ 791640 w 904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285264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Select th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78808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Select connection typ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4587840"/>
            <a:ext cx="331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3. Check Information and Click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xt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①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- Phone number(MOD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- IP Address(TCP/IP connecti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   ②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Admin Passwo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If not programmed, leave it emp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   ③ </a:t>
            </a:r>
            <a:r>
              <a:rPr b="1" lang="ko-KR" sz="1200" spc="-1" strike="noStrike">
                <a:solidFill>
                  <a:srgbClr val="3333cc"/>
                </a:solidFill>
                <a:latin typeface="Arial"/>
              </a:rPr>
              <a:t>Binary file lo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08000" y="11592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0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Remote Software Upgra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5640" y="4021200"/>
            <a:ext cx="2800440" cy="1703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55640" y="1479600"/>
            <a:ext cx="2448000" cy="13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5400000">
            <a:off x="1747800" y="3300480"/>
            <a:ext cx="565200" cy="533520"/>
          </a:xfrm>
          <a:custGeom>
            <a:avLst/>
            <a:gdLst>
              <a:gd name="textAreaLeft" fmla="*/ 88200 w 565200"/>
              <a:gd name="textAreaRight" fmla="*/ 494640 w 565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03640" y="2160720"/>
            <a:ext cx="3095640" cy="2347920"/>
            <a:chOff x="5003640" y="2160720"/>
            <a:chExt cx="3095640" cy="2347920"/>
          </a:xfrm>
        </p:grpSpPr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5003640" y="2160720"/>
              <a:ext cx="309564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7880" y="2784960"/>
              <a:ext cx="1350720" cy="1666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54640" y="3021480"/>
              <a:ext cx="1360440" cy="1760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8200" y="3688200"/>
              <a:ext cx="2070000" cy="2095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78880" y="275004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85000" y="296568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53360" y="367236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6040" y="1523880"/>
            <a:ext cx="3384720" cy="3240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8600" y="836640"/>
            <a:ext cx="4272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ep 2 : Data Transferring Proces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876240" y="4724280"/>
            <a:ext cx="21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mmary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384120" y="5029200"/>
            <a:ext cx="38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f you press [Start] button, the transfer window will be display as like right wind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5002200" y="2982960"/>
            <a:ext cx="302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</a:rPr>
              <a:t>TCP/IP or PPP connection 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Zmodem protocol is not us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5661000"/>
            <a:ext cx="29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</a:rPr>
              <a:t>Modem/Serial connection: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Arial"/>
              </a:rPr>
              <a:t>Zmodem protocol is u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606600" y="4378320"/>
            <a:ext cx="663480" cy="206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81000" y="115920"/>
            <a:ext cx="65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0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Remote Software Upgra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916520" y="1052640"/>
            <a:ext cx="3471840" cy="1846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456000" cy="1922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95640" y="2852640"/>
            <a:ext cx="689040" cy="533520"/>
          </a:xfrm>
          <a:custGeom>
            <a:avLst/>
            <a:gdLst>
              <a:gd name="textAreaLeft" fmla="*/ 107640 w 689040"/>
              <a:gd name="textAreaRight" fmla="*/ 603000 w 6890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836640"/>
            <a:ext cx="3695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ep 3 : Finishing proces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060800" y="1620720"/>
            <a:ext cx="493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success transferring and verification, ipLDK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will disconnect the channel and star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ming Flash RO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t this time, don’t touch anything on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After programming, ipLDK system restart automatic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32040" y="1413000"/>
            <a:ext cx="2866680" cy="197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373068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fail transferring or verification, upgrade software will stop transferring process an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window as like bel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want to try again, press [Yes]. But if you don’t want to do, select [No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48360" y="4581360"/>
            <a:ext cx="2771640" cy="1505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1000" y="115920"/>
            <a:ext cx="65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0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Remote Software Upgra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258920" y="4724280"/>
            <a:ext cx="2409840" cy="1152720"/>
            <a:chOff x="1258920" y="4724280"/>
            <a:chExt cx="2409840" cy="1152720"/>
          </a:xfrm>
        </p:grpSpPr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1258920" y="4724280"/>
              <a:ext cx="24098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162160" y="5535720"/>
              <a:ext cx="465120" cy="215640"/>
            </a:xfrm>
            <a:prstGeom prst="rect">
              <a:avLst/>
            </a:prstGeom>
            <a:solidFill>
              <a:srgbClr val="ece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60640" y="554508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65400" y="5589720"/>
              <a:ext cx="4824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1880" y="5702400"/>
              <a:ext cx="485640" cy="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24000" y="57340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9640" y="1341360"/>
            <a:ext cx="799956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vantages…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atabase Backup for emergence c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ownloaded DB file can be edited by special program(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굴림"/>
              </a:rPr>
              <a:t>Off line PC Admi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Save time and cost to program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ownload DB file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Edit DB </a:t>
            </a:r>
            <a:r>
              <a:rPr b="0" lang="ko-K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Upload D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When mistake is occurred during DB programming, restore the downloaded DB fil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type connection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supported(Serial port, MODEM,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TCPIP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PPP can be used for Mod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Faster process speed(Only for TCPIP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Things that you should keep in mind.(</a:t>
            </a:r>
            <a:r>
              <a:rPr b="1" i="1" lang="ko-KR" sz="17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During downloading the DB from ipLDK system, it will not affect the system oper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i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During uploading into the protected memory, don’t change anyth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</a:t>
            </a:r>
            <a:r>
              <a:rPr b="0" i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in admin item with PC Admin or keyset admin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After finishing the upload process, ipLDK system will be reset automatically if you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selected reset (Recommended) . But if you don’t select reset, ipLDK system will not be rese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8400" y="11592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1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 Upload/download softwa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8208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 1 . Select the system and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66880" y="2909880"/>
            <a:ext cx="504720" cy="533520"/>
          </a:xfrm>
          <a:custGeom>
            <a:avLst/>
            <a:gdLst>
              <a:gd name="textAreaLeft" fmla="*/ 78840 w 504720"/>
              <a:gd name="textAreaRight" fmla="*/ 441720 w 504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2666880"/>
            <a:ext cx="17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Select th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577800" y="5492880"/>
            <a:ext cx="27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Select connection type and operation(download or upload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581360"/>
            <a:ext cx="396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3. Check Information and Click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N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ext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①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- Phone number(MOD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- IP Address(TCP/IP connecti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  ②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Admin Passwo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- If not programmed, leave it emp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   ③ </a:t>
            </a:r>
            <a:r>
              <a:rPr b="1" lang="ko-KR" sz="1200" spc="-1" strike="noStrike">
                <a:solidFill>
                  <a:srgbClr val="3333cc"/>
                </a:solidFill>
                <a:latin typeface="굴림"/>
              </a:rPr>
              <a:t>DB file lo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ff"/>
                </a:solidFill>
                <a:latin typeface="굴림"/>
              </a:rPr>
              <a:t>   ④ </a:t>
            </a:r>
            <a:r>
              <a:rPr b="1" lang="ko-KR" sz="1200" spc="-1" strike="noStrike">
                <a:solidFill>
                  <a:srgbClr val="3333ff"/>
                </a:solidFill>
                <a:latin typeface="굴림"/>
              </a:rPr>
              <a:t>Enable this feature in order to reset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3333ff"/>
                </a:solidFill>
                <a:latin typeface="굴림"/>
              </a:rPr>
              <a:t>       </a:t>
            </a:r>
            <a:r>
              <a:rPr b="1" lang="ko-KR" sz="1200" spc="-1" strike="noStrike">
                <a:solidFill>
                  <a:srgbClr val="3333ff"/>
                </a:solidFill>
                <a:latin typeface="굴림"/>
              </a:rPr>
              <a:t>automatically after DB upload fin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68400" y="115920"/>
            <a:ext cx="80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1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DB up/down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6920" y="1401840"/>
            <a:ext cx="2171880" cy="1235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5640" y="3552840"/>
            <a:ext cx="3024360" cy="1812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24360" y="3457440"/>
            <a:ext cx="714240" cy="533520"/>
          </a:xfrm>
          <a:custGeom>
            <a:avLst/>
            <a:gdLst>
              <a:gd name="textAreaLeft" fmla="*/ 111600 w 714240"/>
              <a:gd name="textAreaRight" fmla="*/ 624960 w 7142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716360" y="1712880"/>
            <a:ext cx="3888000" cy="2795760"/>
            <a:chOff x="4716360" y="1712880"/>
            <a:chExt cx="3888000" cy="2795760"/>
          </a:xfrm>
        </p:grpSpPr>
        <p:pic>
          <p:nvPicPr>
            <p:cNvPr id="249" name="" descr=""/>
            <p:cNvPicPr/>
            <p:nvPr/>
          </p:nvPicPr>
          <p:blipFill>
            <a:blip r:embed="rId3"/>
            <a:stretch/>
          </p:blipFill>
          <p:spPr>
            <a:xfrm>
              <a:off x="4788000" y="1712880"/>
              <a:ext cx="3816360" cy="27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970600" y="3468600"/>
              <a:ext cx="2408400" cy="21924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81640" y="2749680"/>
              <a:ext cx="1617840" cy="21888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7600" y="2489400"/>
              <a:ext cx="1617480" cy="19044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61080" y="3870360"/>
              <a:ext cx="2879640" cy="21924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78880" y="244656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78880" y="273384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②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90160" y="3309840"/>
              <a:ext cx="31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③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16360" y="365616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굴림"/>
                </a:rPr>
                <a:t>④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692280"/>
            <a:ext cx="57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 : Data Transferring Process(Same as remote Upgrad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3727440" y="1447920"/>
            <a:ext cx="17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itor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3798720" y="2438280"/>
            <a:ext cx="21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mmary Wind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933560" y="5962680"/>
            <a:ext cx="49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you press [Start] button, the transfer window will be display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27080" y="175248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2666880"/>
            <a:ext cx="17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68400" y="115920"/>
            <a:ext cx="80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1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DB up/down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024000" cy="2684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46520" cy="2803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612880" y="4221000"/>
            <a:ext cx="3111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09480" y="892080"/>
            <a:ext cx="7589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ep 3 : Finishing proces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825480" y="1484280"/>
            <a:ext cx="77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success transferring or verification, DB up/download software will stop proces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display window as like below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5229360"/>
            <a:ext cx="777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 up/download software is very similar to the remote upgrade software except the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 type  selec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, you will be used to using the two type software with no difficult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08000" y="115920"/>
            <a:ext cx="80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바탕체"/>
              </a:rPr>
              <a:t>11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 Diagram for DB up/down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42920" y="3798720"/>
            <a:ext cx="2305080" cy="1101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263844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2390760" cy="1152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47640" y="2708280"/>
            <a:ext cx="72072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467000" y="4124160"/>
            <a:ext cx="72072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34520" y="1974960"/>
            <a:ext cx="647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굴림체"/>
              </a:rPr>
              <a:t>Demo &amp; Practice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1915920" y="3656160"/>
            <a:ext cx="576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Install PC Admin S/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Connecting PC Admin to syste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Showing how PC admin wor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체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74880" y="11592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2. Demo &amp; Practi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8760" y="909720"/>
            <a:ext cx="860724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C Admin(On-Line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s a PC-based Administration Program for ipLDK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cludes all kinds of keyset admin features and more enhanced featur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manage the database of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DK system in real time from the remote sit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types of connections. (Serial port, LAN, Dial Up MODE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upgrade the MPB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software from the remote sit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powerful searching engine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GM cod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an automatic version detec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PPP connection with Analog L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98640" y="1159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2.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8080" y="868320"/>
            <a:ext cx="8935920" cy="50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rt Related Program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. PGM108 : LAN Configuration (IP address, Gateway addres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. PGM170 : Modem Configuration (Station or CO), DID Tab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. PGM174 : Serial (MODEM) port speed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erial connection : Max 19200bps , Modem Connection : Max 9600bp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rial and Modem Connection Trouble Shoot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. Connection Fail : PGM 174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-. Data Error : Re-connect after 1~2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AN Connection Trouble Shoot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-. Connection Fail : Check PGM 1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1) ipLDK system should have IP address for LAN connection. So, check PGM10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2) WAN Connection Fail : Check NAT/PAT and firewall of the sit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-. Channel disconnection : Re-connect after 1~2 Min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-. Heavy traffic : In some case(Ex : virus), heavy traffic may produce communication err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궁서체"/>
              </a:rPr>
              <a:t>in the  networ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" y="115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ppendix A. Trouble shoo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620640"/>
            <a:ext cx="845820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Logon Fai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-. Check there is another admin or not, Check 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-. Check Connection manager Dialog Bo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       </a:t>
            </a:r>
            <a:r>
              <a:rPr b="0" i="1" lang="ko-KR" sz="1400" spc="-1" strike="noStrike">
                <a:solidFill>
                  <a:srgbClr val="000000"/>
                </a:solidFill>
                <a:latin typeface="Arial"/>
                <a:ea typeface="궁서체"/>
              </a:rPr>
              <a:t>- Kill the pcadm.exe in task manager using CTRL+ALT+DEL or  Exit and restart the LDK PCAD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13372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Backup and Restor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r Management Dat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. Copy </a:t>
            </a:r>
            <a:r>
              <a:rPr b="0" i="1" lang="ko-KR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attribute.cds</a:t>
            </a:r>
            <a:r>
              <a:rPr b="0" i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 installed director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. Restore copied file when you ne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505320"/>
            <a:ext cx="800100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Backup and Restor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r Management Dat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-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i="1" lang="ko-KR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Lmaster.cds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ko-KR" sz="1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Ldetail.cds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 installation directory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. When this backup is needed?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se 1 : When you want restore the database after installing the PCADM agai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se 2 : When you want to setup the same level data to various customer. In other words,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fix several levels and apply this configuration to all custome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107640" y="115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ppendix A. Trouble shoo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1160" y="1033560"/>
            <a:ext cx="853416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tegrated in PCADM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mote Upgrade and DB updown are integrated in one pack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ser can execute each utility in menu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f you want to execute each utility without PCADM, user can execute them separate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PPP can be used for Mod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Faster process spe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08000" y="11592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Appendix B. LDK Utiliti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1560" y="15228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2. PC Spec.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8760" y="911160"/>
            <a:ext cx="75722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C Spec. Requirement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Pentium Celleron 233MHz CPU or high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(Celleron 333 or more high performance CPU is recommend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256 color Super VGA (800*600), or high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At least 64MB RAM (128MB or more RAM is recommende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MS-Windows NT/2000/X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NIC(Network Interface Card) for LAN connec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MODEM for PSTN connection (Optional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88200" y="1159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3. PC Spec. Requirem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1522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3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62040"/>
            <a:ext cx="708660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nection of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DK System and 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RS-232C(Serial Cable, USB Serial Conver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Analog Modem (PPP connection is availab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TCP/IP(LA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370320" y="2743200"/>
            <a:ext cx="1368360" cy="541440"/>
          </a:xfrm>
          <a:prstGeom prst="cloudCallout">
            <a:avLst>
              <a:gd name="adj1" fmla="val -8467"/>
              <a:gd name="adj2" fmla="val 8108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255840" y="3500280"/>
            <a:ext cx="1752840" cy="505080"/>
          </a:xfrm>
          <a:prstGeom prst="cloudCallout">
            <a:avLst>
              <a:gd name="adj1" fmla="val -5162"/>
              <a:gd name="adj2" fmla="val 78615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AN/W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37000" y="3200040"/>
            <a:ext cx="733320" cy="29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068640"/>
            <a:ext cx="1446120" cy="63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3789360"/>
            <a:ext cx="62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983120" y="3716280"/>
            <a:ext cx="1168560" cy="4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773680" y="5208480"/>
          <a:ext cx="14112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3680" y="5208480"/>
                    <a:ext cx="1411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645240" y="4427640"/>
            <a:ext cx="0" cy="836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7072200" y="5300640"/>
            <a:ext cx="110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RS-232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064200" y="30686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MOD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389240" y="3325680"/>
          <a:ext cx="1330200" cy="10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9240" y="3325680"/>
                    <a:ext cx="133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00080" y="11592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4. Connection Typ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135840" y="3357720"/>
            <a:ext cx="1001520" cy="98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87480" y="2997360"/>
            <a:ext cx="1041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103480" y="42926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AN 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5343480" y="414972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AN 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999120" y="4221000"/>
            <a:ext cx="110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RS-232C 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527120" y="515772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Remote s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4551480" y="515772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Local s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1200" y="15228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4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manual01" descr=""/>
          <p:cNvPicPr/>
          <p:nvPr/>
        </p:nvPicPr>
        <p:blipFill>
          <a:blip r:embed="rId1"/>
          <a:stretch/>
        </p:blipFill>
        <p:spPr>
          <a:xfrm>
            <a:off x="990720" y="1890720"/>
            <a:ext cx="3100320" cy="1841400"/>
          </a:xfrm>
          <a:prstGeom prst="rect">
            <a:avLst/>
          </a:prstGeom>
          <a:ln w="0">
            <a:noFill/>
          </a:ln>
        </p:spPr>
      </p:pic>
      <p:pic>
        <p:nvPicPr>
          <p:cNvPr id="86" name="manual02" descr=""/>
          <p:cNvPicPr/>
          <p:nvPr/>
        </p:nvPicPr>
        <p:blipFill>
          <a:blip r:embed="rId2"/>
          <a:stretch/>
        </p:blipFill>
        <p:spPr>
          <a:xfrm>
            <a:off x="5067360" y="1890720"/>
            <a:ext cx="3124080" cy="1849320"/>
          </a:xfrm>
          <a:prstGeom prst="rect">
            <a:avLst/>
          </a:prstGeom>
          <a:ln w="0">
            <a:noFill/>
          </a:ln>
        </p:spPr>
      </p:pic>
      <p:pic>
        <p:nvPicPr>
          <p:cNvPr id="87" name="manual03" descr=""/>
          <p:cNvPicPr/>
          <p:nvPr/>
        </p:nvPicPr>
        <p:blipFill>
          <a:blip r:embed="rId3"/>
          <a:stretch/>
        </p:blipFill>
        <p:spPr>
          <a:xfrm>
            <a:off x="990720" y="4159080"/>
            <a:ext cx="3111480" cy="1838520"/>
          </a:xfrm>
          <a:prstGeom prst="rect">
            <a:avLst/>
          </a:prstGeom>
          <a:ln w="0">
            <a:noFill/>
          </a:ln>
        </p:spPr>
      </p:pic>
      <p:pic>
        <p:nvPicPr>
          <p:cNvPr id="88" name="manual05" descr=""/>
          <p:cNvPicPr/>
          <p:nvPr/>
        </p:nvPicPr>
        <p:blipFill>
          <a:blip r:embed="rId4"/>
          <a:stretch/>
        </p:blipFill>
        <p:spPr>
          <a:xfrm>
            <a:off x="5067360" y="4159080"/>
            <a:ext cx="3109680" cy="18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88920" y="1438200"/>
            <a:ext cx="199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Execute “SETUP.EXE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Click [Next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990360" y="3733920"/>
            <a:ext cx="27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Change Directory to be insta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Click [Next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063400" y="1438200"/>
            <a:ext cx="313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Enter User Name and Company Name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Click [Next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070960" y="3733920"/>
            <a:ext cx="18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Click [Finish]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765000"/>
            <a:ext cx="3454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C Admin S/W Instal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06560" y="1159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5. S/W Instal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673200"/>
            <a:ext cx="7343640" cy="5681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07120" y="836640"/>
            <a:ext cx="24685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5559480" y="5877000"/>
            <a:ext cx="2833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Message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IP &amp; Connection 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981000"/>
            <a:ext cx="4106880" cy="9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1197000"/>
            <a:ext cx="647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900000"/>
            <a:ext cx="1663560" cy="152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5105520" cy="288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1628640"/>
            <a:ext cx="1241640" cy="576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1557360"/>
            <a:ext cx="4753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498680"/>
            <a:ext cx="990720" cy="1299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1844640"/>
            <a:ext cx="43210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07280" y="1159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Main Wind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781280" y="6178680"/>
            <a:ext cx="2719440" cy="1299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05360"/>
            <a:ext cx="3240000" cy="360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6021360"/>
            <a:ext cx="20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6237360"/>
            <a:ext cx="1079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155640" y="8366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154560" y="105264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System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6154920" y="139536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Adm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156000" y="170028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 Adm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7894440" cy="338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28000" y="393876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Adm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229080" y="45482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 Adm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5423040" y="551664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in information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809640" y="4165560"/>
            <a:ext cx="1333440" cy="776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546200" y="4098960"/>
            <a:ext cx="472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55480" y="4035600"/>
            <a:ext cx="990720" cy="129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2146320" y="4699080"/>
            <a:ext cx="412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692280"/>
            <a:ext cx="833436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Admin Menu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All of admin menu is structured in a tree shap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A related sub admin menus are appeared at the right side of the tree when you cli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main admin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e information of sub admin menu is displayed at the right side by double click of mous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07280" y="1159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6. Main Wind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661000"/>
            <a:ext cx="51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3789360"/>
            <a:ext cx="2376720" cy="2519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8760" y="915840"/>
            <a:ext cx="8464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sic System Inform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System : ipLDK System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MPB : MPB Software Version and Compiled 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Connect LED : Connection Status between PC Admin and ipLDK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Tx/Rx LED : This LED will be turned on when PCADM sends or receives data from ipLDK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PC ADM : PC Admin Version and Compiled D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Nation Code and Site Name : Nation code and site name are shown according to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defined in the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Location Information (PGM 100)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08720" y="11592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7. 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84247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김완경</cp:lastModifiedBy>
  <dcterms:modified xsi:type="dcterms:W3CDTF">2007-03-10T06:39:14Z</dcterms:modified>
  <cp:revision>155</cp:revision>
  <dc:subject/>
  <dc:title>PowerPoint 프레젠테이션</dc:title>
</cp:coreProperties>
</file>